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jpeg" ContentType="image/jpeg"/>
  <Override PartName="/ppt/media/image20.wmf" ContentType="image/x-wmf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2D2-7A78-4613-B3D0-5D75BCDA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E1A-F308-4146-B3D6-26547AE6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F9D-1CBE-4B39-86DA-0DE0EBF2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F7F-FA95-4B7E-A8E2-32C791D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575-2757-43BA-8E37-B3B76AA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BF1-7500-437B-A24E-E29BB085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F8C-4BD9-4B06-96C3-0E98A343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FBD-E916-4A13-AF3D-709BE14B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E02-20E9-46E3-A987-452F210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058-E4EA-4BB6-A7A4-F022BBF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9EB-F492-425F-A1BA-872AF9A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7D8-A759-4C2C-972F-5558280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A36-7619-4455-A86F-E1FBF0C99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240360" cy="2200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2-09-13T12:05:30Z</dcterms:modified>
  <cp:revision>52</cp:revision>
  <dc:subject/>
  <dc:title>PowerPoint Presentation</dc:title>
</cp:coreProperties>
</file>