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87" name="Picture 12" descr="footer_nackt_neu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9753480"/>
            <a:ext cx="6805440" cy="19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00120" y="4970520"/>
            <a:ext cx="552456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0" y="9734040"/>
            <a:ext cx="4819680" cy="19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1692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9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DE" sz="900" spc="-1" strike="noStrike">
                <a:solidFill>
                  <a:srgbClr val="333333"/>
                </a:solidFill>
                <a:latin typeface="Times New Roman"/>
              </a:rPr>
              <a:t>Department     Titel of Presentation (CorpoS, 10pt),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5369040" y="973404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1692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9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972DAA-8160-4E40-BEAB-1BAA33C860AE}" type="slidenum">
              <a:rPr b="0" lang="de-DE" sz="9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0" y="0"/>
            <a:ext cx="6805440" cy="668160"/>
            <a:chOff x="0" y="0"/>
            <a:chExt cx="6805440" cy="668160"/>
          </a:xfrm>
        </p:grpSpPr>
        <p:pic>
          <p:nvPicPr>
            <p:cNvPr id="92" name="Picture 16" descr="header_plain"/>
            <p:cNvPicPr/>
            <p:nvPr/>
          </p:nvPicPr>
          <p:blipFill>
            <a:blip r:embed="rId3"/>
            <a:srcRect l="0" t="0" r="3999" b="0"/>
            <a:stretch/>
          </p:blipFill>
          <p:spPr>
            <a:xfrm>
              <a:off x="0" y="0"/>
              <a:ext cx="680544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7" descr="MB 4_WHITE_ASYMETBM_ppt"/>
            <p:cNvPicPr/>
            <p:nvPr/>
          </p:nvPicPr>
          <p:blipFill>
            <a:blip r:embed="rId4"/>
            <a:stretch/>
          </p:blipFill>
          <p:spPr>
            <a:xfrm>
              <a:off x="690840" y="158760"/>
              <a:ext cx="21866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4"/>
          <p:cNvSpPr>
            <a:spLocks noGrp="1"/>
          </p:cNvSpPr>
          <p:nvPr>
            <p:ph type="sldImg"/>
          </p:nvPr>
        </p:nvSpPr>
        <p:spPr>
          <a:xfrm>
            <a:off x="568080" y="99324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Click to move the slide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369040" y="9734400"/>
            <a:ext cx="1428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1692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D2DE0D-00D6-4F58-AE12-BBC8A97DE9A3}" type="slidenum">
              <a:rPr b="0" lang="de-DE" sz="9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87240" y="993600"/>
            <a:ext cx="4969080" cy="3727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38280" y="5122800"/>
            <a:ext cx="55260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369040" y="9734400"/>
            <a:ext cx="1428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16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C613F-A031-461D-A160-C6713FB124EF}" type="slidenum">
              <a:rPr b="0" lang="en-US" sz="1300" spc="-1" strike="noStrike">
                <a:solidFill>
                  <a:srgbClr val="999999"/>
                </a:solidFill>
                <a:latin typeface="Times New Roman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71960" cy="3730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92840" cy="4481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Originally planned for </a:t>
            </a:r>
            <a:r>
              <a:rPr b="1" lang="en-US" sz="1100" spc="-1" strike="noStrike">
                <a:solidFill>
                  <a:srgbClr val="ff0101"/>
                </a:solidFill>
                <a:latin typeface="CorpoS"/>
                <a:ea typeface="PMingLiU"/>
              </a:rPr>
              <a:t>Reason 2006: PRC only!!!</a:t>
            </a:r>
            <a:endParaRPr b="0" lang="en-US" sz="1100" spc="-1" strike="noStrike">
              <a:solidFill>
                <a:srgbClr val="999999"/>
              </a:solidFill>
              <a:latin typeface="CorpoS"/>
            </a:endParaRPr>
          </a:p>
          <a:p>
            <a:pPr indent="0" algn="ctr">
              <a:lnSpc>
                <a:spcPct val="8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101"/>
                </a:solidFill>
                <a:latin typeface="CorpoS"/>
                <a:ea typeface="PMingLiU"/>
              </a:rPr>
              <a:t>Hong Kong 2005</a:t>
            </a:r>
            <a:endParaRPr b="0" lang="en-US" sz="1100" spc="-1" strike="noStrike">
              <a:solidFill>
                <a:srgbClr val="999999"/>
              </a:solidFill>
              <a:latin typeface="CorpoS"/>
            </a:endParaRPr>
          </a:p>
          <a:p>
            <a:pPr indent="0" algn="ctr">
              <a:lnSpc>
                <a:spcPct val="8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999999"/>
              </a:solidFill>
              <a:latin typeface="Corpo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Required steps for product demonstration: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Pre-defined vehicle presentation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Explanation of vehicle benefits according to customer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needs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Test drive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Reinforce benefits to customers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Test drives are offered to customers within five working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days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Customer feedback is obtained after the test drive and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recorded in the customer database/DMS.</a:t>
            </a: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C64E-3978-48BB-BCA8-FA8F19B4C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2D3A-2BBD-4F00-9633-E04D47C36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1BFB-7D02-43AD-87D2-206F7C3A7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276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524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028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276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524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A7EC-112B-4461-849C-08939184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00280" y="1447560"/>
            <a:ext cx="757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1F46-CE01-4CBA-867E-AD0F07D76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76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524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0028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276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524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80DF-C853-4816-850F-07F49A9C3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3851-85A8-4EB1-BD66-B02DA207F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EE9A-948B-4297-ABC4-14579EF5D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00280" y="1447560"/>
            <a:ext cx="757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59B5-C612-4D6D-99FB-496DE22AC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CC1C-CF93-4C83-8B5A-3BB15097E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0505-E8A9-45D7-9215-90AE1E71B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DCE6-86CE-4AD4-809B-6AAC81703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7" descr="footer_nackt_neu"/>
          <p:cNvPicPr/>
          <p:nvPr/>
        </p:nvPicPr>
        <p:blipFill>
          <a:blip r:embed="rId2"/>
          <a:srcRect l="0" t="0" r="4033" b="0"/>
          <a:stretch/>
        </p:blipFill>
        <p:spPr>
          <a:xfrm>
            <a:off x="0" y="6600960"/>
            <a:ext cx="9140760" cy="257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61800" indent="-18072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714240" indent="-172800"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076400" indent="-18108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Rectangle 34"/>
          <p:cNvSpPr/>
          <p:nvPr/>
        </p:nvSpPr>
        <p:spPr>
          <a:xfrm>
            <a:off x="7194600" y="6607080"/>
            <a:ext cx="1914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rpoS"/>
              </a:rPr>
              <a:t>Mercedes-Benz (Thailand) Limited 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Rectangle 35"/>
          <p:cNvSpPr/>
          <p:nvPr/>
        </p:nvSpPr>
        <p:spPr>
          <a:xfrm>
            <a:off x="3832200" y="6610320"/>
            <a:ext cx="446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72720" y="6616800"/>
            <a:ext cx="2552760" cy="241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alership Standards Handbook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5"/>
          <p:cNvSpPr/>
          <p:nvPr/>
        </p:nvSpPr>
        <p:spPr>
          <a:xfrm>
            <a:off x="3832200" y="6600960"/>
            <a:ext cx="21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7" name="Picture 68" descr="mb_ppt4zu3_v2_Inhalt"/>
          <p:cNvPicPr/>
          <p:nvPr/>
        </p:nvPicPr>
        <p:blipFill>
          <a:blip r:embed="rId3"/>
          <a:stretch/>
        </p:blipFill>
        <p:spPr>
          <a:xfrm>
            <a:off x="0" y="0"/>
            <a:ext cx="9140760" cy="882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604680" y="662256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Page: </a:t>
            </a:r>
            <a:fld id="{64669E3D-E199-462C-BCB2-A534811FCA8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of 1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8" descr="footer_nackt_neu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6600960"/>
            <a:ext cx="9144000" cy="25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1" descr="titel_hintergrund_neu"/>
          <p:cNvPicPr/>
          <p:nvPr/>
        </p:nvPicPr>
        <p:blipFill>
          <a:blip r:embed="rId3"/>
          <a:stretch/>
        </p:blipFill>
        <p:spPr>
          <a:xfrm>
            <a:off x="0" y="853920"/>
            <a:ext cx="9144000" cy="575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8" descr="mb_ppt4zu3_v2_Inhalt"/>
          <p:cNvPicPr/>
          <p:nvPr/>
        </p:nvPicPr>
        <p:blipFill>
          <a:blip r:embed="rId4"/>
          <a:stretch/>
        </p:blipFill>
        <p:spPr>
          <a:xfrm>
            <a:off x="0" y="0"/>
            <a:ext cx="9140760" cy="88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61800" indent="-18072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714240" indent="-172800"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076400" indent="-18108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38120" y="4078440"/>
            <a:ext cx="8156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260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rpoA"/>
              </a:rPr>
              <a:t>Dealership Standards Handbook – </a:t>
            </a:r>
            <a:r>
              <a:rPr b="0" i="1" lang="de-DE" sz="2400" spc="-1" strike="noStrike">
                <a:solidFill>
                  <a:srgbClr val="000000"/>
                </a:solidFill>
                <a:latin typeface="CorpoA"/>
              </a:rPr>
              <a:t>English Version</a:t>
            </a:r>
            <a:r>
              <a:rPr b="0" lang="de-DE" sz="2800" spc="-1" strike="noStrike">
                <a:solidFill>
                  <a:srgbClr val="000000"/>
                </a:solidFill>
                <a:latin typeface="CorpoA"/>
              </a:rPr>
              <a:t>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CorpoA"/>
              </a:rPr>
              <a:t>Mercedes-Benz Passenger Vehicles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9960" y="6205320"/>
            <a:ext cx="87058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54000" bIns="46800" anchor="ctr">
            <a:spAutoFit/>
          </a:bodyPr>
          <a:p>
            <a:pPr algn="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rpoS"/>
              </a:rPr>
              <a:t>Mercedes-Benz (Thailand) Limited</a:t>
            </a: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 </a:t>
            </a:r>
            <a:br>
              <a:rPr sz="1400"/>
            </a:br>
            <a:r>
              <a:rPr b="0" lang="de-DE" sz="1300" spc="-1" strike="noStrike">
                <a:solidFill>
                  <a:srgbClr val="000000"/>
                </a:solidFill>
                <a:latin typeface="CorpoS"/>
              </a:rPr>
              <a:t>Business &amp; NetworkDevelopment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97" name="Picture 4" descr="C-Class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8960" y="453960"/>
            <a:ext cx="4538520" cy="287280"/>
          </a:xfrm>
          <a:prstGeom prst="rect">
            <a:avLst/>
          </a:prstGeom>
          <a:noFill/>
          <a:ln w="0">
            <a:noFill/>
          </a:ln>
        </p:spPr>
        <p:txBody>
          <a:bodyPr lIns="0" tIns="1260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cs typeface="PMingLiU"/>
              </a:rPr>
              <a:t>ผู้จำหน่าย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PMingLiU"/>
              </a:rPr>
              <a:t>ต้อง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cs typeface="PMingLiU"/>
              </a:rPr>
              <a:t>มีการทำธุรกิจรถใช้แล้ว</a:t>
            </a:r>
            <a:endParaRPr b="0" lang="en-US" sz="2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703760" y="135000"/>
            <a:ext cx="4262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rpoS"/>
                <a:ea typeface="PMingLiU"/>
              </a:rPr>
              <a:t>F 2.1 Used Vehicle Business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85760" y="1751040"/>
            <a:ext cx="422748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)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ต้องได้ตามมาตรฐาน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ของรถ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มีขั้นตอนการประเมินมูลค่ารถใช้แล้วที่กำหนดโดย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บริษัทเมอร์เซเดส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เบนซ์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ประเทศไทย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)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จำกัด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ไว้ใช้และมีไว้สำหรับลูกค้า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ff3300"/>
              </a:buClr>
              <a:buFont typeface="Angsana New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ผู้จำหน่ายส่งรายงานกิจกรรมการซื้อ ขายรถใช้แล้ว มาที่ บริษัทเมอร์เซเดส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-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เบนซ์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(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ประเทศไทย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) 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ผ่านทาง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www.benzproven.com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แต่ละโชว์รูมจะต้องมีเจ้าหน้าที่ ที่รับผิดชอบธุรกิจรถมือสอง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437000" y="1681200"/>
            <a:ext cx="4707000" cy="73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ายเหตุ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จำหน่ายทุกรายจะต้องมี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rovenExclusivity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ั้งแต่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013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ต้นไป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ข้อนี้ถือว่าผ่านเมื่อผู้จำหน่ายเริ่มดำเนินธุรกิจแล้วเท่านั้น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arenR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รวจสอบรายการตามนี้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.1)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เครื่องมือการตลาด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(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ตย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.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ล่องไฟ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,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แผ่นป้ายทะเบียน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ใบราคารถยนต์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.2)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ภาพของรถยนต์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รวจสอบโดยการสุ่ม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E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ำนวน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ัน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ถยนต์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E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มีอายุไม่เกิน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8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ี และระยะทางวิ่งมา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50,00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ม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ถยนต์จอดโชว์สะอาด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ยใ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ยนอก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้องเครื่อง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้ำมันเชื้อเพลิงไม่น้อยกว่าครึ่งถัง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ีข้อความความผิดปรกติติดโชว์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ีข้อความเตือนนำรถเข้าบำรุงรักษาติดโชว์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ร้อมติดเครื่องยนต์ได้ทันที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1.3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)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ใบอนุญาตค้าของเก่า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arenR" startAt="2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รวจสอบใบประเมินราคารถยนต์ใช้แล้ว และ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multipoint check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See file </a:t>
            </a:r>
            <a:r>
              <a:rPr b="0" i="1" lang="en-US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F2.1_ Evaluation form and multipoint check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         </a:t>
            </a:r>
            <a:r>
              <a:rPr b="0" i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F2.1_ ProvenExclusivity standard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ngsana New"/>
              <a:buAutoNum type="arabicParenR" startAt="3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รถยนต์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Demo car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ที่ได้รับการอนุญาตขาย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 และรถยนต์ในโปรแกรม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ProvenExclusivity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ต้องถูกบันทึกลงใน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Website: www.Benzproven.com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ตามมาตรฐา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4)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ทำหน้าที่รับผิดชอบธุรกิจรถมือสอง สามารถเป็นคนเดียวกับผู้จัดการฝ่ายขายรถใหม่  หรือพนักงานในฝ่ายขายเท่านั้น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9280" y="4660920"/>
            <a:ext cx="3592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จำหน่ายจัดเตรียมล่วงหน้า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บประเมินราคารถยนต์ใช้แล้ว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Multipoint Check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ังองค์กรและคำบรรยายลักษณะงาน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5943600"/>
            <a:ext cx="41958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MBTh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ัดเตรียมล่วงหน้า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ยงานการสรุปการขายรถยนต์ ประจำเดือน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5003640" y="4869000"/>
            <a:ext cx="247680" cy="2635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>
            <a:off x="539640" y="4809960"/>
            <a:ext cx="36576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3760" y="895320"/>
            <a:ext cx="5587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967040" y="885960"/>
            <a:ext cx="2217600" cy="23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n-site: back-offic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187880" y="878040"/>
            <a:ext cx="480960" cy="466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S&amp;M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79600" y="887400"/>
            <a:ext cx="1376280" cy="466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ff-site/MPC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7334280" y="882720"/>
            <a:ext cx="1809720" cy="237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S"/>
                <a:ea typeface="PMingLiU"/>
              </a:rPr>
              <a:t>Basic Bonus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173160" y="1312920"/>
            <a:ext cx="8751240" cy="312840"/>
            <a:chOff x="173160" y="1312920"/>
            <a:chExt cx="8751240" cy="312840"/>
          </a:xfrm>
        </p:grpSpPr>
        <p:sp>
          <p:nvSpPr>
            <p:cNvPr id="112" name="Text Box 16"/>
            <p:cNvSpPr/>
            <p:nvPr/>
          </p:nvSpPr>
          <p:spPr>
            <a:xfrm>
              <a:off x="179280" y="1581120"/>
              <a:ext cx="4106520" cy="44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173160" y="1312920"/>
              <a:ext cx="411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Measurement Criteria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4508280" y="1312920"/>
              <a:ext cx="4416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Additional Information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4457520" y="1581120"/>
              <a:ext cx="4466880" cy="44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</p:grpSp>
      <p:sp>
        <p:nvSpPr>
          <p:cNvPr id="116" name="Line 20"/>
          <p:cNvSpPr/>
          <p:nvPr/>
        </p:nvSpPr>
        <p:spPr>
          <a:xfrm>
            <a:off x="163440" y="4654440"/>
            <a:ext cx="4048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3080" y="6616800"/>
            <a:ext cx="2552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rpoS"/>
              </a:rPr>
              <a:t>Dealership Standards Handbook 2012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3605040" y="6622920"/>
            <a:ext cx="2435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Page: </a:t>
            </a:r>
            <a:fld id="{403DF5B7-5641-4A1A-8585-5165AFAB718E}" type="slidenum"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 of 109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081320" y="114480"/>
            <a:ext cx="48085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rpoS"/>
                <a:ea typeface="PMingLiU"/>
              </a:rPr>
              <a:t>F 2.1 Used Vehicle Business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47680" y="1681200"/>
            <a:ext cx="3664080" cy="28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1) </a:t>
            </a: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Used vehicle business must follow ProvenExclusivity standard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2)</a:t>
            </a: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Process of evaluation of used vehicles as defined by MBTh is in place and available to the customers.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ff3300"/>
              </a:buClr>
              <a:buFont typeface="Corpo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Used car process report ( Buying ans selling ) is submitted to MBTh according to requirement via website (www.Benzproven.com)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4)        Each outlet has an officially assigned  specific ProvenExclusivity responsible person.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211640" y="1663560"/>
            <a:ext cx="47419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Note: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Each dealer must have used car business from 2013 onwards.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Standard is considered fulfill until PE business started.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Check following items: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1. Marketing Tools (e.g. light box, registration plate, &amp; price tag)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2. Condition of Vehicles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Randomly check visual condition of 2 displayed vehicles as follow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- All displayed vehicle clean e.g. interior, exterior, and engine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compartment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Fuel at least ½ tank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No malfunction messag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No service interval reminder shown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Can start promptly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Age of PE vehicle must be less than 8 years and mileage is not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exceed 150,000 km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3.  Used cars sales license 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Check completed used vehicle evaluation forms and multipoint check list.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            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See file F2.1_ Evaluation form and multipoint check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            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See file F2.1_ ProvenExclusivity standard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3)          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  <a:ea typeface="PMingLiU"/>
              </a:rPr>
              <a:t>Demonstrate car which are allowed for sale and ProvenExclusivity vehicle must be report into webs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www.Benzproven.com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  <a:ea typeface="PMingLiU"/>
              </a:rPr>
              <a:t>follow standard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85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4)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PE responsible person can be the same as sales manager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      one in sale team.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4859280" y="4869000"/>
            <a:ext cx="270000" cy="263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79280" y="4581360"/>
            <a:ext cx="2656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Dealership to prepare in advance: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87480" indent="-87480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Used vehicle evaluation fo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Multipoint check lis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Organization chart, Jo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    description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79280" y="5724360"/>
            <a:ext cx="2576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MBTh to prepare in adva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Provide information if used c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    retail report is submitted .  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0" y="4437000"/>
            <a:ext cx="3924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480" y="905040"/>
            <a:ext cx="5587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986120" y="895320"/>
            <a:ext cx="2217600" cy="23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n-site: back-offic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10200" y="896760"/>
            <a:ext cx="480960" cy="466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S&amp;M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17400" y="896760"/>
            <a:ext cx="1376640" cy="466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ff-site/MPC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7334280" y="892080"/>
            <a:ext cx="1809720" cy="23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S"/>
                <a:ea typeface="PMingLiU"/>
              </a:rPr>
              <a:t>Basic Bonus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131" name="Group 15"/>
          <p:cNvGrpSpPr/>
          <p:nvPr/>
        </p:nvGrpSpPr>
        <p:grpSpPr>
          <a:xfrm>
            <a:off x="163440" y="1224000"/>
            <a:ext cx="8280360" cy="304920"/>
            <a:chOff x="163440" y="1224000"/>
            <a:chExt cx="8280360" cy="304920"/>
          </a:xfrm>
        </p:grpSpPr>
        <p:sp>
          <p:nvSpPr>
            <p:cNvPr id="132" name="Text Box 16"/>
            <p:cNvSpPr/>
            <p:nvPr/>
          </p:nvSpPr>
          <p:spPr>
            <a:xfrm>
              <a:off x="169920" y="1481400"/>
              <a:ext cx="4025880" cy="42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00" bIns="-360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163440" y="1224000"/>
              <a:ext cx="4032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Measurement Criteria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4414680" y="1224000"/>
              <a:ext cx="396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Additional Information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4414680" y="1481400"/>
              <a:ext cx="4029120" cy="4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00" bIns="-360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94280" y="458640"/>
            <a:ext cx="5370480" cy="309600"/>
          </a:xfrm>
          <a:prstGeom prst="rect">
            <a:avLst/>
          </a:prstGeom>
          <a:noFill/>
          <a:ln w="0">
            <a:noFill/>
          </a:ln>
        </p:spPr>
        <p:txBody>
          <a:bodyPr lIns="0" tIns="1260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PMingLiU"/>
              </a:rPr>
              <a:t>Each dealership must have used vehicle business.</a:t>
            </a:r>
            <a:endParaRPr b="0" lang="en-US" sz="18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tIns="1260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Back Up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73080" y="6616800"/>
            <a:ext cx="2552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rpoS"/>
              </a:rPr>
              <a:t>Dealership Standards Handbook 2012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605040" y="6622920"/>
            <a:ext cx="2435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Page: </a:t>
            </a:r>
            <a:fld id="{62267005-7CA2-40E9-A6FF-1520C08005BA}" type="slidenum"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 of 109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9:28:58Z</dcterms:created>
  <dc:creator>AK</dc:creator>
  <dc:description/>
  <dc:language>en-US</dc:language>
  <cp:lastModifiedBy>Iamsuksaeng, Mongkol (118)</cp:lastModifiedBy>
  <cp:lastPrinted>2012-09-07T04:02:31Z</cp:lastPrinted>
  <dcterms:modified xsi:type="dcterms:W3CDTF">2012-09-13T11:31:26Z</dcterms:modified>
  <cp:revision>64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