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939338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BA9-B83B-4C56-B270-D90597AB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B1C-890E-4852-9F0F-A6E763A7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77E-56DE-4739-98CC-14D27759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63A-0A4D-4ED1-95CA-911B2F83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FC9-61C9-4539-8BB5-187C7006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120-FB57-4D96-8661-79FADEFA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A6E-F31E-49ED-AB95-CE8B6D37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16F-3182-4E52-B819-06604210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4B4-1142-4CFA-B536-4E529DAB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452-A548-49BD-BC12-E26851B6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25F-05B1-454B-A238-44A8FEB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D3F-45B2-4B8A-B076-617ADE6B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5480-3A8D-45F2-947D-2A3EDCD0F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8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89680" y="3213000"/>
            <a:ext cx="24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er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893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0880" y="446040"/>
            <a:ext cx="8382240" cy="590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25440" cy="83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2700360" y="1509840"/>
            <a:ext cx="1079640" cy="73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2771640" y="4341960"/>
            <a:ext cx="863640" cy="587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6227640" y="4869000"/>
            <a:ext cx="574920" cy="39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6213600" y="2558880"/>
            <a:ext cx="58716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7"/>
          <a:stretch/>
        </p:blipFill>
        <p:spPr>
          <a:xfrm>
            <a:off x="4633920" y="2065320"/>
            <a:ext cx="7920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3606840" y="1370160"/>
            <a:ext cx="115236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2195640" y="189000"/>
            <a:ext cx="936360" cy="63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 rot="21223200">
            <a:off x="3773160" y="4546440"/>
            <a:ext cx="122400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935280" cy="63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1584360" cy="10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3995640" y="4869000"/>
            <a:ext cx="9367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202280" y="0"/>
            <a:ext cx="4833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79280" y="2205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936720" cy="636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1152720" cy="78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6012000" y="274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6012000" y="418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012000" y="5613480"/>
            <a:ext cx="115236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5943600" cy="45864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320" y="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หัวข้อด้านรถยนต์มือสองที่กระทบกับกฎ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23800" y="690480"/>
            <a:ext cx="1744560" cy="379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64040" y="68580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วัตถุประสงค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49360" y="2349360"/>
            <a:ext cx="4567320" cy="3844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63480" y="234468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ขอบเขตในส่วนของด้านรถยนต์มือสอ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892080" y="1063800"/>
            <a:ext cx="7489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ผลกระทบจากกฎหมายคุ้มครองผู้บริโภคแก่ผู้แทนจำหน่ายทั่วประเท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MS PGothic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ดูแลปัญหาที่ส่งผลกระทบต่อลูกค้าร้องเรียนในส่วนของผู้แทน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ปัญหาลูกค้าร้องเรียนที่เกิดจากเรียกร้องสิทธิการคุ้มครองผู้บริโภ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4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ความเสี่ยงจากการแพ้คดี ทางผู้แทนจำหน่าย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63480" y="2741760"/>
            <a:ext cx="748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้างถึง ประกาศคณะกรรมการว่าด้วยฉลาก ฉบับที่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24 (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พ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50) 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เรื่อง ให้รถยนต์ใช้แล้วเป็นสินค้าที่ควบคุมฉลาก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บังคับใช้ 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30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สิงหาคคม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2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511200" y="4952880"/>
            <a:ext cx="7489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รถยนต์ที่นั่งส่วนบุคคลไม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นั่งส่ว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บุคคลเกิน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ต่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2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ละรถยนต์บรรทุกส่วนบุคคลที่ม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น้ำหนักรถ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,600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กิโลกรัม ซึ่งมิได้ใช้ประกอบการขนส่งเพื่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สินจ้างตามกฎหมายว่าด้วยการขนส่งทางบกที่ได้จดทะเบียนตาม พรบ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พ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22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แล้ว ซึ่งผู้ประกอบธุรกิจมีไว้เพื่อ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511200" y="3422520"/>
            <a:ext cx="6727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การขาย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การประกอบธุรกิจการค้าโดยผู้ประกอ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นำรถยนต์ใช้แล้ว ออกขาย แลกเปลี่ยน หรือจำหน่ายโดยประ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ื่นอย่างทรัพย์ที่ใช้แล้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80880" y="4343400"/>
            <a:ext cx="7489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ผู้ประกอบธุรกิจ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ผู้ประกอบธุรกิจขายรถยนต์ใช้แล้วซึ่งไม่รวมถึง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ซื้อขายโดยทำธุรกรรมทางอิเลกทรอนิกส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14375" t="8594" r="12500" b="65628"/>
          <a:stretch/>
        </p:blipFill>
        <p:spPr>
          <a:xfrm>
            <a:off x="109440" y="182880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rcRect l="14375" t="72660" r="12500" b="7032"/>
          <a:stretch/>
        </p:blipFill>
        <p:spPr>
          <a:xfrm>
            <a:off x="109440" y="4114800"/>
            <a:ext cx="8915400" cy="19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2"/>
          <p:cNvSpPr/>
          <p:nvPr/>
        </p:nvSpPr>
        <p:spPr>
          <a:xfrm>
            <a:off x="304920" y="304920"/>
            <a:ext cx="83818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ฉลากของสินค้าที่ควบคุม”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ความว่า ให้ระบุข้อมูลด้วยตัวอักษรขนาดไม่ต่ำกว่า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ซม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กี่ยวกับรถยนต์ใช้แล้ว ตามที่ปรากฎในรายการจดทะเบียนตามกฎหมายว่าด้วยรถยนต์ ตั้งแต่วันจดทะเบียนจนถึงวันที่จำหน่าย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งต่อไปนี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3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04920" y="5486400"/>
            <a:ext cx="5562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C 200</a:t>
            </a:r>
            <a:r>
              <a:rPr b="0" lang="th-TH" sz="32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Blue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774800" y="1476360"/>
            <a:ext cx="25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ercedes-Benz/M2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5791320" y="13827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B/C200 Blue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1774800" y="1733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5791320" y="17272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4048 6L 0479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1774800" y="211464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,7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5791320" y="2050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1860 30 223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5810400" y="24321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ง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1766880" y="278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84/5,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5791320" y="272736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1 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ม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ค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1774800" y="3067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3"/>
          <p:cNvSpPr/>
          <p:nvPr/>
        </p:nvSpPr>
        <p:spPr>
          <a:xfrm>
            <a:off x="5800680" y="30510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มบ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6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6"/>
          <p:cNvSpPr/>
          <p:nvPr/>
        </p:nvSpPr>
        <p:spPr>
          <a:xfrm>
            <a:off x="5791320" y="32907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รถยนต์นั่งส่วนบุคคลไม่เกิน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7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ค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990720" y="376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poA"/>
              </a:rPr>
              <a:t>1,85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9"/>
          <p:cNvSpPr/>
          <p:nvPr/>
        </p:nvSpPr>
        <p:spPr>
          <a:xfrm>
            <a:off x="5791320" y="3697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CK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5"/>
          <p:cNvSpPr/>
          <p:nvPr/>
        </p:nvSpPr>
        <p:spPr>
          <a:xfrm>
            <a:off x="1774800" y="24210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0/1,800-4,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6"/>
          <p:cNvSpPr/>
          <p:nvPr/>
        </p:nvSpPr>
        <p:spPr>
          <a:xfrm>
            <a:off x="1808280" y="1793880"/>
            <a:ext cx="89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บนซ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0"/>
          <p:cNvSpPr/>
          <p:nvPr/>
        </p:nvSpPr>
        <p:spPr>
          <a:xfrm>
            <a:off x="5800680" y="3925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1.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สมชาย สิริประภ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1"/>
          <p:cNvSpPr/>
          <p:nvPr/>
        </p:nvSpPr>
        <p:spPr>
          <a:xfrm>
            <a:off x="1752480" y="467676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2"/>
          <p:cNvSpPr/>
          <p:nvPr/>
        </p:nvSpPr>
        <p:spPr>
          <a:xfrm>
            <a:off x="1752480" y="4981680"/>
            <a:ext cx="105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9,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1774800" y="4343400"/>
            <a:ext cx="134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5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620640"/>
            <a:ext cx="8820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1)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must have been sold by Mercedes-benz authorized dealer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rovenExclusivity vehicles have to sell with warranty and star assist at least 1 y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nstration car which are allowed for sell  must be input and sell via website:www.BenzProven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2)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ock and retail report will be automatically report by website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cel  retail report by e-mail or fa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will be randomly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ed at showroom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3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ProvenExclusivity vehicles area display and POS must follow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1.2.4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  Trade-in prospect report  must be submitted every end month .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within 7 day after end mon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3)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PE responsible person can be the same as sales manager or one in sale team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st be register responsible person in website and Organization char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4) Document and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ce tag and Receipt form must be follow ProvenExclusivity stand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aler must be get used car sell licen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17000" y="9684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620640"/>
            <a:ext cx="925200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1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สินค้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ในโครง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เป็นรถที่จำหน่ายโดยผู้แทนจำหน่ายเมอร์เซเดสเบนซ์อย่างเป็นทางการ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จำหน่ายพร้อม การรับประกันคุณภาพแล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 assist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อย่างน้อย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ปีเต็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 car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ที่ครบกำหนดอายุขาย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ถือเป็นรถยนต์ใช้แล้วต้องทำการบันทึกและจำหน่ายผ่านทา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:www.BenzProven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2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กระบวนการทำ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a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จะถูกตรวจสอบผ่านทาง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โดยอัตโนมัต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ยกเลิก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Stock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่านทางเอกส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เดิ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2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จะถูกสุ่มตรวจที่โชว์รู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ทุกสิ้นเดือ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ารจัดแสดงรถ เช่น พื้นที่จัดแสดง และเครื่องมือการตลาด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ล่องไฟ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ผ่นป้ายทะเบียน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ใบราคารถยนต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ได้ตามมาตรฐา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Angsana New"/>
              </a:rPr>
              <a:t>1.2.4</a:t>
            </a:r>
            <a:r>
              <a:rPr b="0" lang="en-US" sz="1400" spc="-1" strike="noStrike">
                <a:solidFill>
                  <a:srgbClr val="3333cc"/>
                </a:solidFill>
                <a:latin typeface="Angsana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de-in Prospec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Report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ผู้แทนจำหน่าย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จะต้องส่งรายงานผ่านทาง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mail 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ทุกสิ้นเดือน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โดยใช้แบบฟอรม์ที่ทาง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BTH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จัดเตรียมไว้ให้ภายใน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วันหลังจากสิ้นเดือ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3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บุคลาก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ทำหน้าที่รับผิดชอบธุรกิจรถมือสอง สามารถเป็นคนเดียวกับผู้จัดการฝ่ายขายรถใหม่  หรือพนักงานในฝ่ายขายเท่านั้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โดยทำการบันทึกชื่อพนักงานที่รับผิดชอบลงในเวบไซด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แล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tion ch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4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งานเอกสารและใบอนุญา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ป้ายราคาและใบเสร็จรับเงินถูกต้องตามมาตรฐา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แทนจำหน่ายจำเป็นต้องขอใบอนุญาตค้าของเก่า ให้ถูกต้อ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-284400" y="6840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000000"/>
                </a:solidFill>
                <a:uFillTx/>
                <a:latin typeface="Times New Roman"/>
              </a:rPr>
              <a:t>สรุปสาระสำค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623160"/>
            <a:ext cx="828036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Standard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1 Warranty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.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Arial"/>
              </a:rPr>
              <a:t>(whichever come first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aximum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years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4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 is an o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24 Hr. Road side 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ercedes-Benz Star Ass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hicle have to pass criteria of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Point Vehicle Check conform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cedes-Benz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The vehicles has no major acci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and mileage is not  exceed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count form registr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No change milea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and mileage less than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ehicles in ProvenExclusivity program must have been sold by Mercedes-benz authorized deale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ehicles must be in good condition, cleanliness, start promptly with out displaying any malfun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at least half tank of fu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ehicles are presented with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E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CI-conform ,clearly visible price tag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, Recipt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&amp; registration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7667640" y="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63440" y="-281880"/>
            <a:ext cx="7888320" cy="74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"/>
              </a:rPr>
              <a:t>มาตรฐาน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มีการรับประกัน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ปี หรือ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000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ก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รับประกันสูงสุดถึง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ปี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บริการช่วยเหลือฉุกเฉินตลอด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ช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Mercedes-Benz Star Assis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ผ่านการตรวจสอบ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ulti-Point Vehicle 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ตรง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ercedes-B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ถยนต์ได้รับการตรวจสอบ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edes-Benz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รถยนต์ไม่เคยประสบอุบัติเหตุรุนแร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ไม่เคยประสบอุบัติเหตุรุนแรงใด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ไม่เกิ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มีเลขไมล์ไม่เกิ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50,000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ก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น้อยกว่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ปีนับจากวันเริ่มต้น วารันตีรถใหม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ลขไมล์บนแผงหน้าปัดเป็นเลขไมล์จริง และผ่านการใช้งานมาน้อยกว่า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0,000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ก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000000"/>
                </a:solidFill>
                <a:uFillTx/>
                <a:latin typeface="Arial"/>
              </a:rPr>
              <a:t>อื่น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ที่เข้าร่วม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จะต้องเป็นรถที่ผ่านการจัดจำหน่ายโดยเมอร์เซเดส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เบนซ์ประเทศไทย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อยู่ในสภาพพร้อมจำหน่าย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ะอา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ตาร์ทติ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ไม่มีข้อความ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malfunction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ขึ้นแสดงที่หน้าปั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น้ำมันครึ่งถ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MS PGothic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ที่จัดแสดง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ต้องติดป้ายราคา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และแผ่นป้ายทะเบียน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MS PGothic"/>
              </a:rPr>
              <a:t>,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ใบเสร็จรับเงิน ตามมาตรฐานที่กำหน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667640" y="11592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-420120" y="450864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ใบราคา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Price ta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MB_368"/>
          <p:cNvPicPr/>
          <p:nvPr/>
        </p:nvPicPr>
        <p:blipFill>
          <a:blip r:embed="rId1"/>
          <a:stretch/>
        </p:blipFill>
        <p:spPr>
          <a:xfrm>
            <a:off x="611280" y="1773360"/>
            <a:ext cx="3743280" cy="2066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95280" y="5661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3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MB_355"/>
          <p:cNvPicPr/>
          <p:nvPr/>
        </p:nvPicPr>
        <p:blipFill>
          <a:blip r:embed="rId2"/>
          <a:stretch/>
        </p:blipFill>
        <p:spPr>
          <a:xfrm>
            <a:off x="5292720" y="404640"/>
            <a:ext cx="3095640" cy="1866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3776400" y="4508640"/>
            <a:ext cx="559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2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วงกลม สูญญากา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25000" y="567540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แผ่นคล้องกระจกมองหลั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มองหลั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1" descr="MB_421"/>
          <p:cNvPicPr/>
          <p:nvPr/>
        </p:nvPicPr>
        <p:blipFill>
          <a:blip r:embed="rId3"/>
          <a:stretch/>
        </p:blipFill>
        <p:spPr>
          <a:xfrm>
            <a:off x="6948360" y="2349360"/>
            <a:ext cx="1451160" cy="2175120"/>
          </a:xfrm>
          <a:prstGeom prst="rect">
            <a:avLst/>
          </a:prstGeom>
          <a:ln w="0">
            <a:noFill/>
          </a:ln>
        </p:spPr>
      </p:pic>
      <p:sp>
        <p:nvSpPr>
          <p:cNvPr id="59" name="Oval 13"/>
          <p:cNvSpPr/>
          <p:nvPr/>
        </p:nvSpPr>
        <p:spPr>
          <a:xfrm>
            <a:off x="3348000" y="142236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270036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3922560" y="342900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205092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7"/>
          <p:cNvSpPr/>
          <p:nvPr/>
        </p:nvSpPr>
        <p:spPr>
          <a:xfrm flipV="1">
            <a:off x="2916360" y="16999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2700360" y="169992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92436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0"/>
          <p:cNvSpPr/>
          <p:nvPr/>
        </p:nvSpPr>
        <p:spPr>
          <a:xfrm flipH="1" flipV="1">
            <a:off x="2195280" y="169992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99080" y="18900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S for ProvenExclus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2" descr="MB_399"/>
          <p:cNvPicPr/>
          <p:nvPr/>
        </p:nvPicPr>
        <p:blipFill>
          <a:blip r:embed="rId4"/>
          <a:stretch/>
        </p:blipFill>
        <p:spPr>
          <a:xfrm>
            <a:off x="5292720" y="2349360"/>
            <a:ext cx="1366920" cy="2159280"/>
          </a:xfrm>
          <a:prstGeom prst="rect">
            <a:avLst/>
          </a:prstGeom>
          <a:ln w="0">
            <a:noFill/>
          </a:ln>
        </p:spPr>
      </p:pic>
      <p:sp>
        <p:nvSpPr>
          <p:cNvPr id="69" name="Oval 14"/>
          <p:cNvSpPr/>
          <p:nvPr/>
        </p:nvSpPr>
        <p:spPr>
          <a:xfrm>
            <a:off x="8315280" y="40464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7674120" y="1422360"/>
            <a:ext cx="28872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8170920" y="338148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5830920" y="242100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4"/>
          <p:cNvGrpSpPr/>
          <p:nvPr/>
        </p:nvGrpSpPr>
        <p:grpSpPr>
          <a:xfrm>
            <a:off x="304920" y="2209680"/>
            <a:ext cx="8496360" cy="2971800"/>
            <a:chOff x="304920" y="2209680"/>
            <a:chExt cx="8496360" cy="297180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rcRect l="0" t="0" r="0" b="877"/>
            <a:stretch/>
          </p:blipFill>
          <p:spPr>
            <a:xfrm>
              <a:off x="380880" y="2209680"/>
              <a:ext cx="2032200" cy="28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" descr=""/>
            <p:cNvPicPr/>
            <p:nvPr/>
          </p:nvPicPr>
          <p:blipFill>
            <a:blip r:embed="rId2"/>
            <a:srcRect l="0" t="0" r="0" b="2992"/>
            <a:stretch/>
          </p:blipFill>
          <p:spPr>
            <a:xfrm>
              <a:off x="2438280" y="220968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3"/>
            <a:srcRect l="0" t="0" r="0" b="2568"/>
            <a:stretch/>
          </p:blipFill>
          <p:spPr>
            <a:xfrm>
              <a:off x="4579920" y="2209680"/>
              <a:ext cx="21258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"/>
            <p:cNvPicPr/>
            <p:nvPr/>
          </p:nvPicPr>
          <p:blipFill>
            <a:blip r:embed="rId4"/>
            <a:stretch/>
          </p:blipFill>
          <p:spPr>
            <a:xfrm>
              <a:off x="6705720" y="2362320"/>
              <a:ext cx="209556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7"/>
            <p:cNvSpPr/>
            <p:nvPr/>
          </p:nvSpPr>
          <p:spPr>
            <a:xfrm>
              <a:off x="304920" y="220968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9" descr="iD1 Brand Mark 4C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702000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" descr="iD1 Brand Mark 4C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752472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8"/>
            <p:cNvSpPr/>
            <p:nvPr/>
          </p:nvSpPr>
          <p:spPr>
            <a:xfrm>
              <a:off x="380880" y="2209680"/>
              <a:ext cx="8382240" cy="2895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Rectangle 15"/>
          <p:cNvSpPr/>
          <p:nvPr/>
        </p:nvSpPr>
        <p:spPr>
          <a:xfrm>
            <a:off x="6477120" y="2286000"/>
            <a:ext cx="304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4419720" y="2286000"/>
            <a:ext cx="304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2743200" y="7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ProvenExclusivity Showroom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9" descr="iD1 Brand Mark 4C"/>
          <p:cNvPicPr/>
          <p:nvPr/>
        </p:nvPicPr>
        <p:blipFill>
          <a:blip r:embed="rId7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0"/>
          <p:cNvSpPr/>
          <p:nvPr/>
        </p:nvSpPr>
        <p:spPr>
          <a:xfrm>
            <a:off x="7772400" y="2362320"/>
            <a:ext cx="1219320" cy="685800"/>
          </a:xfrm>
          <a:prstGeom prst="wedgeRectCallout">
            <a:avLst>
              <a:gd name="adj1" fmla="val -45310"/>
              <a:gd name="adj2" fmla="val 678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poAMed"/>
              </a:rPr>
              <a:t>Pre-own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8"/>
          <a:stretch/>
        </p:blipFill>
        <p:spPr>
          <a:xfrm>
            <a:off x="7596360" y="333360"/>
            <a:ext cx="1366560" cy="93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9"/>
          <a:stretch/>
        </p:blipFill>
        <p:spPr>
          <a:xfrm>
            <a:off x="6915240" y="2897280"/>
            <a:ext cx="436320" cy="29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10"/>
          <a:stretch/>
        </p:blipFill>
        <p:spPr>
          <a:xfrm>
            <a:off x="7494480" y="2935440"/>
            <a:ext cx="28908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304920" y="2286000"/>
            <a:ext cx="8458200" cy="2971800"/>
            <a:chOff x="304920" y="2286000"/>
            <a:chExt cx="8458200" cy="297180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>
              <a:off x="6718320" y="2286000"/>
              <a:ext cx="20448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rcRect l="0" t="0" r="0" b="877"/>
            <a:stretch/>
          </p:blipFill>
          <p:spPr>
            <a:xfrm>
              <a:off x="380880" y="2286000"/>
              <a:ext cx="2032200" cy="28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"/>
            <p:cNvPicPr/>
            <p:nvPr/>
          </p:nvPicPr>
          <p:blipFill>
            <a:blip r:embed="rId3"/>
            <a:srcRect l="0" t="0" r="0" b="2992"/>
            <a:stretch/>
          </p:blipFill>
          <p:spPr>
            <a:xfrm>
              <a:off x="2438280" y="228600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"/>
            <p:cNvPicPr/>
            <p:nvPr/>
          </p:nvPicPr>
          <p:blipFill>
            <a:blip r:embed="rId4"/>
            <a:srcRect l="0" t="0" r="0" b="2568"/>
            <a:stretch/>
          </p:blipFill>
          <p:spPr>
            <a:xfrm>
              <a:off x="4579920" y="2286000"/>
              <a:ext cx="21258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7"/>
            <p:cNvSpPr/>
            <p:nvPr/>
          </p:nvSpPr>
          <p:spPr>
            <a:xfrm>
              <a:off x="304920" y="228600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0880" y="2286000"/>
              <a:ext cx="8382240" cy="2895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6477120" y="2361960"/>
              <a:ext cx="304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4419720" y="2361960"/>
              <a:ext cx="3045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11"/>
          <p:cNvSpPr/>
          <p:nvPr/>
        </p:nvSpPr>
        <p:spPr>
          <a:xfrm>
            <a:off x="1143000" y="7858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Corporate Design Guidelines for DaimlerChrys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" descr="iD1 Brand Mark 4C"/>
          <p:cNvPicPr/>
          <p:nvPr/>
        </p:nvPicPr>
        <p:blipFill>
          <a:blip r:embed="rId5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6"/>
          <a:stretch/>
        </p:blipFill>
        <p:spPr>
          <a:xfrm>
            <a:off x="7667640" y="333360"/>
            <a:ext cx="12254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"/>
          <p:cNvPicPr/>
          <p:nvPr/>
        </p:nvPicPr>
        <p:blipFill>
          <a:blip r:embed="rId1"/>
          <a:stretch/>
        </p:blipFill>
        <p:spPr>
          <a:xfrm>
            <a:off x="2362320" y="0"/>
            <a:ext cx="4832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3670200" y="2031840"/>
            <a:ext cx="93528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2484360" y="189000"/>
            <a:ext cx="935280" cy="63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 rot="21292800">
            <a:off x="3455640" y="4768560"/>
            <a:ext cx="6843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5"/>
          <a:stretch/>
        </p:blipFill>
        <p:spPr>
          <a:xfrm>
            <a:off x="4586400" y="5148360"/>
            <a:ext cx="649080" cy="44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6"/>
          <a:stretch/>
        </p:blipFill>
        <p:spPr>
          <a:xfrm>
            <a:off x="5769000" y="5573880"/>
            <a:ext cx="50328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0:22:03Z</dcterms:created>
  <dc:creator>DaimlerChrysler</dc:creator>
  <dc:description/>
  <dc:language>en-US</dc:language>
  <cp:lastModifiedBy>Iamsuksaeng, Mongkol (118)</cp:lastModifiedBy>
  <cp:lastPrinted>2012-09-07T04:04:38Z</cp:lastPrinted>
  <dcterms:modified xsi:type="dcterms:W3CDTF">2014-01-27T04:03:28Z</dcterms:modified>
  <cp:revision>53</cp:revision>
  <dc:subject/>
  <dc:title>PowerPoint Presentation</dc:title>
</cp:coreProperties>
</file>